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9CB-5D57-486D-94B7-50CE325E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76D-180A-41F9-8F9F-50335A4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5BC-2015-4D3F-8A0B-A95558B5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B4C-6D86-441B-9515-32D3B202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0ED-C2D1-474D-9089-183B2CFF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B63B-645A-4164-B362-26DB90C3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7E53-BA31-43FF-AC01-14D35B6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CB9-45D3-4AC4-A961-04DFBBA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E81-C70E-4B51-9703-470D575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D3E-B69A-43F3-AF9F-27E747DE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9B1E-5EC5-49DC-81CE-AA4204A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AA3-DE56-48D5-9914-9422B49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2BF-769F-47BE-A42D-7B17BB6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2C3D-2DF2-49BE-BAF3-8C80EA8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138-09A5-489B-A09F-6087A898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49DC-E048-4ED8-B9C7-7883F19F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AD3-66AE-4A07-A144-669851FA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E556-7395-4336-8805-4D610D37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56CA-2326-45CD-B441-6A00131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6BFA-6F40-462D-8425-778F0FF3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8ED7-BCF5-4FD2-BD09-D89B5AF4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3144-D8B5-4984-8263-C6632AF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D8A-E20F-4C5B-91F0-999CF13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13CC-55A4-4023-A738-0A75767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6C0C-438B-462C-9BFF-E43B7D8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EDB3-D8E2-402A-9252-C96CAB3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8288-85BF-47DD-9E1E-A10931F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3037-4ABF-479F-AA49-9DA9332C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E2C1-FDFF-42B7-8A0D-EDD0ABE7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C10D-53CD-4DB8-9FCE-8E8FDBD5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6DB-8A39-45F1-A69E-DCB76E66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FC9-B005-45AC-AAC5-32B0488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EAA-AA4A-4386-8A44-6E83A4A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897-C6DD-4593-AA69-4F40A65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2C8-5BB2-4ADE-B96E-98C7D65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C0B-0BA4-4122-842C-67BB095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576-E0A8-428C-931B-28CA042D3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9182-B8C9-449B-A46C-BA0BF78B9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1D7-9CBF-4FBF-B019-70E65A01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780000" y="3886200"/>
            <a:ext cx="504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полнила: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игаматзянова Гульнара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льдаровна, воспитатель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ГПД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360" y="333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МОУ Балтас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623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86080"/>
            <a:ext cx="763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Клубный час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«Юным умникам и умницам»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ёт борьба среди звер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ез клыков и без когте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х по порядку одоле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г одолеть всех косолапый наш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44280"/>
            <a:ext cx="3745080" cy="342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745080" cy="319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66920" y="4508640"/>
            <a:ext cx="230508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f6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4920" y="804960"/>
            <a:ext cx="5759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ыжки в длину. Вам не совру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сех дальше прыгну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19640" y="750960"/>
            <a:ext cx="37101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3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0464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ерв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треть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седьм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с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вят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еб, кровать, звезда, облако, машина, труба, слон, дом, кошка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58920" y="4581360"/>
            <a:ext cx="1584360" cy="150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187308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871640" cy="138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1501920" cy="13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3280" y="4292640"/>
            <a:ext cx="2160720" cy="2050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4322" t="25302" r="9399" b="20965"/>
          <a:stretch/>
        </p:blipFill>
        <p:spPr>
          <a:xfrm>
            <a:off x="3924360" y="4869000"/>
            <a:ext cx="2016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50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награммы - загадки с перестановкой букв в слове для образования другого сло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егко дыша в моей тени,</a:t>
            </a:r>
            <a:br>
              <a:rPr sz="1600"/>
            </a:b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Меня ты летом часто хвалишь,            (а,п,л,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 буквы переставь мои –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целый лес ты мною свалишь.           (а,п,л,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 – дерево в родной стране, 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Найдешь в лесах меня ты всюду,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о слоги переставь во мне – </a:t>
            </a:r>
            <a:br>
              <a:rPr sz="1600"/>
            </a:b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И воду подавать я буду.        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доль по проволоке мчусь,    (т,к,о)              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очи я и дн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с конца меня прочтут –       (т,к,о)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игру я сродн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Липа – п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Сосна – нас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Ток – к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аграм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2174400"/>
            <a:ext cx="504216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 «к» в полях меня найд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 «г» романсы запо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«в» в косички заплет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С «ч» летаю над вол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С «л» не дам волкам по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 «м» рубашка - безрукав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 «з» скачу в лесу по тра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С «г» меня крепи к детали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железа или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4144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бы отгадать метаграммму, нужно заменить  в слове одну букву другой, тогда вы получите новое слов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5574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276640"/>
            <a:ext cx="23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К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Г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В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3933720"/>
            <a:ext cx="1584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33"/>
                </a:solidFill>
                <a:latin typeface="Arial"/>
              </a:rPr>
              <a:t>Ч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ff"/>
                </a:solidFill>
                <a:latin typeface="Arial"/>
              </a:rPr>
              <a:t>Л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М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33ff"/>
                </a:solidFill>
                <a:latin typeface="Arial"/>
              </a:rPr>
              <a:t>З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cc"/>
                </a:solidFill>
                <a:latin typeface="Arial"/>
              </a:rPr>
              <a:t>Г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 какой квартире жил  каждый котёнок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,2,3 жили 3 котё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в квартире №1 и 2 жил не чёрный котёнок. Белый котёнок жил не в квартире №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2466720" cy="1851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0" y="4184640"/>
            <a:ext cx="2521080" cy="189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"/>
          <p:cNvSpPr txBox="1"/>
          <p:nvPr/>
        </p:nvSpPr>
        <p:spPr>
          <a:xfrm>
            <a:off x="2843280" y="1844640"/>
            <a:ext cx="176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чёрн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78596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alligraph421 BT"/>
              </a:rPr>
              <a:t>бел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9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alligraph421 BT"/>
              <a:ea typeface="Calligraph421 B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48200" y="1773360"/>
            <a:ext cx="149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>
                    <a:alpha val="8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olstyak"/>
              </a:rPr>
              <a:t>рыж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>
                  <a:alpha val="8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olstyak"/>
              <a:ea typeface="Tolstya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10e9"/>
            </a:gs>
            <a:gs pos="100000">
              <a:srgbClr val="eef74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2089080" cy="187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2737080" cy="22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464000" cy="547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331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ие животные могут это делать?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лычет-…, шипит-… , мычи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жжит -…, пищит -…, вое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кает -.., чирикает -…, кукует -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ет -…, квакает -…, ревет -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йдите гласные букв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700280"/>
            <a:ext cx="822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_л_д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_   _мн_к_  _   _мн_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66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з каждого слова исключите по одному звуку, чтобы получилось новое слово. Вот так: го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ь-гость.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655360"/>
            <a:ext cx="79250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чка, ст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л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, зу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к, п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чк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яд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д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обавьте к каждому из слов один звук, чтобы получилось новое слово. Вот так: рот-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рот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9246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за (г), рубка (т), стол (б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р (у), клад (с), лапа(м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шар (ф), усы (б)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f99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мените в словах один согласный звук. Вот так: корж-морж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гти (к), зубы (д), киска (м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ок (л), галка (п), орёл (с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рка (к), свет (ц), полено (к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лимпиада звер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6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ние! Внимание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ётся общий старт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бегу состяза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впереди?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18280" y="2349360"/>
            <a:ext cx="2817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 вот в поднятии бревна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льнее не было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59280" y="3141720"/>
            <a:ext cx="7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18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0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81680"/>
            <a:ext cx="8640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грают звери в баскетбол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рова, лошадь, бык, осёл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о мячик ловко отобрав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сех обыграл один…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889600" y="3429000"/>
            <a:ext cx="2930400" cy="331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867280" y="115920"/>
            <a:ext cx="293076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04920" y="2708280"/>
            <a:ext cx="2692440" cy="388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132000" y="2708280"/>
            <a:ext cx="2500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77979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соревнов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цельное мет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коса и бана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лучший?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816360" cy="367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59280" y="907920"/>
            <a:ext cx="410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07:06Z</dcterms:created>
  <dc:creator>user</dc:creator>
  <dc:description/>
  <dc:language>en-US</dc:language>
  <cp:lastModifiedBy>user</cp:lastModifiedBy>
  <dcterms:modified xsi:type="dcterms:W3CDTF">2007-03-17T20:32:24Z</dcterms:modified>
  <cp:revision>16</cp:revision>
  <dc:subject/>
  <dc:title>Юным умникам и умницам</dc:title>
</cp:coreProperties>
</file>